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B1D-6FA9-40EC-A9A0-7841511286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8F4-6B18-4BEE-88B6-2618574ED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DD9-F23B-464C-AFD8-97C927710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7435-CD51-4A7D-A717-E9FB63BA3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58F-2BC0-4012-92CB-88C8CE954E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778-AEB3-4566-B262-B5CAE3B73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582F-1913-46DE-99E1-169A29CF65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3821-D98D-4D6C-8951-6B4DE3A3A1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8BC1-8070-498F-957F-811AB368FC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64F-1EC9-4522-8A5E-901EEAD4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B18-4B2B-4205-9F88-F7A3048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6C6-4856-4EE2-8AD9-E06E9AC5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008-5F97-4211-8E50-0FF53ADF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9F3A-31E9-438F-900F-E61859E3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3D5-B9CB-40FF-B76F-AB6FB3D2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430D-D8E2-4544-A39F-ED9E2B31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C5D3-94F2-4971-87FD-207B23B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A44B-D2DA-48F7-8C3A-F169F0E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8006-CA93-4254-AAD4-69DE74F0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CFA-26B7-4EA2-871C-F43E569A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21F-6B47-4956-A90F-4D9D4A5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4FD-7B25-4205-9948-D889CC2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1BA-8BA7-4F51-984D-C439470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36E3-6218-4C57-A9B1-E5674BB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DA2-FA6C-43DF-80EC-E7300B07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D0D-8C85-4E65-B99D-96B34EB3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944-DBD1-4BDA-8145-E27AED4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DA9-AB35-4335-B56D-139A8906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37A-9C0E-4E84-9F50-C172DF5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D3E-9294-4FC8-945C-9AA2736F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893-40B3-416C-9A13-97513B8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063-74BA-4A2C-8212-F994E8D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79F-C448-4E57-9433-7BB07AA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B550-103A-4687-83C3-D5CCF814D2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CFAC-4868-4CD3-854C-939CF09D9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714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Р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7156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6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7072560" cy="142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714040" y="2143080"/>
            <a:ext cx="57132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571840" y="221472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428200" y="2214720"/>
            <a:ext cx="7858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356560" y="2357280"/>
            <a:ext cx="714600" cy="15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928960" y="214308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428200" y="278604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3214800" y="235728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>
            <a:off x="37861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6"/>
          <p:cNvSpPr/>
          <p:nvPr/>
        </p:nvSpPr>
        <p:spPr>
          <a:xfrm>
            <a:off x="37861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8"/>
          <p:cNvSpPr/>
          <p:nvPr/>
        </p:nvSpPr>
        <p:spPr>
          <a:xfrm>
            <a:off x="37861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0"/>
          <p:cNvSpPr/>
          <p:nvPr/>
        </p:nvSpPr>
        <p:spPr>
          <a:xfrm>
            <a:off x="37861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2"/>
          <p:cNvSpPr/>
          <p:nvPr/>
        </p:nvSpPr>
        <p:spPr>
          <a:xfrm>
            <a:off x="37861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Соединительная линия уступом 44"/>
          <p:cNvCxnSpPr/>
          <p:nvPr/>
        </p:nvCxnSpPr>
        <p:spPr>
          <a:xfrm>
            <a:off x="37861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1" name="Прямая соединительная линия 46"/>
          <p:cNvSpPr/>
          <p:nvPr/>
        </p:nvSpPr>
        <p:spPr>
          <a:xfrm>
            <a:off x="37861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48"/>
          <p:cNvSpPr/>
          <p:nvPr/>
        </p:nvSpPr>
        <p:spPr>
          <a:xfrm>
            <a:off x="37861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0"/>
          <p:cNvSpPr/>
          <p:nvPr/>
        </p:nvSpPr>
        <p:spPr>
          <a:xfrm>
            <a:off x="37861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0"/>
          <p:cNvSpPr/>
          <p:nvPr/>
        </p:nvSpPr>
        <p:spPr>
          <a:xfrm>
            <a:off x="607212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2"/>
          <p:cNvSpPr/>
          <p:nvPr/>
        </p:nvSpPr>
        <p:spPr>
          <a:xfrm>
            <a:off x="607212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4"/>
          <p:cNvSpPr/>
          <p:nvPr/>
        </p:nvSpPr>
        <p:spPr>
          <a:xfrm>
            <a:off x="607212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6"/>
          <p:cNvSpPr/>
          <p:nvPr/>
        </p:nvSpPr>
        <p:spPr>
          <a:xfrm>
            <a:off x="607212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8"/>
          <p:cNvSpPr/>
          <p:nvPr/>
        </p:nvSpPr>
        <p:spPr>
          <a:xfrm>
            <a:off x="607212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0"/>
          <p:cNvSpPr/>
          <p:nvPr/>
        </p:nvSpPr>
        <p:spPr>
          <a:xfrm>
            <a:off x="607212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6"/>
          <p:cNvSpPr/>
          <p:nvPr/>
        </p:nvSpPr>
        <p:spPr>
          <a:xfrm>
            <a:off x="607212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4"/>
          <p:cNvSpPr/>
          <p:nvPr/>
        </p:nvSpPr>
        <p:spPr>
          <a:xfrm>
            <a:off x="607212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6"/>
          <p:cNvSpPr/>
          <p:nvPr/>
        </p:nvSpPr>
        <p:spPr>
          <a:xfrm>
            <a:off x="607212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2"/>
          <p:cNvSpPr/>
          <p:nvPr/>
        </p:nvSpPr>
        <p:spPr>
          <a:xfrm>
            <a:off x="6072120" y="235728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6"/>
          <p:cNvSpPr/>
          <p:nvPr/>
        </p:nvSpPr>
        <p:spPr>
          <a:xfrm flipH="1">
            <a:off x="45720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6"/>
          <p:cNvSpPr/>
          <p:nvPr/>
        </p:nvSpPr>
        <p:spPr>
          <a:xfrm flipH="1">
            <a:off x="7500960" y="20718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8"/>
          <p:cNvSpPr/>
          <p:nvPr/>
        </p:nvSpPr>
        <p:spPr>
          <a:xfrm flipH="1">
            <a:off x="757188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50"/>
          <p:cNvSpPr/>
          <p:nvPr/>
        </p:nvSpPr>
        <p:spPr>
          <a:xfrm flipH="1">
            <a:off x="7643880" y="207180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4"/>
          <p:cNvSpPr/>
          <p:nvPr/>
        </p:nvSpPr>
        <p:spPr>
          <a:xfrm flipH="1">
            <a:off x="771480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816200" y="2071800"/>
            <a:ext cx="7130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7392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43040" y="2500200"/>
            <a:ext cx="7323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Найди все буквы П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72867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145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38:3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